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A369-23BF-40C7-AFAB-D4D5097C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3EC6-C758-4A5F-9D8F-6F0A236F5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minutes, 28 seconds Video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hitehouse.gov/photos-and-video/video/2010/09/16/a-stem-education-tools-change-worl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and jot the ideas that stood out to you.  Share these with a partner.  What did you hear that we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5E1-76B1-4B99-8FF2-910312E9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411-9E0A-412A-8EF6-A2156B3F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C11-6357-4F96-9408-03E7F190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C27-3A80-4513-9B8A-E2824896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67C-78F6-4834-AF35-665BB8A8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925-7DAF-4007-B54D-D62AEFD1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95A-2749-4A90-8ABB-BE8E52C4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238-8C83-4C4E-B81D-FD1A6F8C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A07-49F1-494E-B4CD-8F01A56C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8D6-35DE-4DB7-8434-88AD2DD1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6A6-1452-4F72-AF14-BECD6C0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E08-5B67-437D-8BC6-8697BB5B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9E26-4F9C-49F5-8ECF-29DF4B045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rcRect l="20834" t="30000" r="22919" b="46667"/>
          <a:stretch/>
        </p:blipFill>
        <p:spPr>
          <a:xfrm>
            <a:off x="0" y="-152280"/>
            <a:ext cx="9144000" cy="23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itehouse.gov/photos-and-video/video/2010/09/16/a-stem-education-tools-change-worl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em.definedlearning.com/connect.cfm?asset_guid=6d37717d-0305-4740-ab70-a5fa946e793c&amp;blnSearch=1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desas.org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finedstem.wikispaces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IU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fined STEM </a:t>
            </a: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rainer of Trai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David L. Reese, Ed. D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unny Minelli Weil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vigation of Defined STEM, Exploration and Connecting the Do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will now have experience of navigating Defined STEM resources.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ease see facilitation script for guidance.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 will be given time to explore site and areas of interest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select one performance task and video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download “connecting the dots” worksheet from “content manager” in learning community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yze the resources you located in Defined STE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cument your findings related to the elements contained in “Connect the Dot” worksheet!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ob Alike Evalu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technological considerations might need to be addressed to effectively use the Defined STEM resources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can the Defined STEM resources be used in a traditional face to face classroom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can Defined STEM resources be used beyond traditional classroom?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Questions, Considerations and Next Step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 You </a:t>
            </a: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 would like to get to know you!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is your name?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do you do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do you know about Defined STEM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your hopes for today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stion for Viewin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 What is the vision for STEM and 21st century learning?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ideo: 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EM Education-Tools to Change the World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valuation of Defined STEM Resources as these connect to the 21st Century Workpla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cus for viewin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viewing video, participants should jot down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nt connections in relation to Academic Standard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kill applications – Performance standard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reativity &amp; Innov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ork Environment &amp; Collabor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ideo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ing Virtual Technology to Assist in Rocket Desig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take two minutes to independently document observations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groups, identify top 5 connections related to the area of focus.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sign a recorder to document top 5 list using non-linguistic representa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sign a reporter to share the findings of the small group with the large group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flection and Exit Ticket for Brea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go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desas.org/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login to SAS.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f participants you not have login information, please create account using the following steps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ick “login” in upper right hand corn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ick “join now”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mplete registration informat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nter information as prompted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ce you have login, click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teacher tools”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n upper right corne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selec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learning communities”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rch for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“PAIUnet:  Defined STEM Learning Community”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join now”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select forum titled: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EM Education and the 21st Century Workpla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thin STEM Education and the 21st Century Workplace forum, please respond to the following prompt: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ed upon viewing and evaluating one Defined STEM video, Using Virtual Technology to Assist in Rocket Design, shar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finding that aligns with your vision for STEM education; an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finding that aligns with the 21st century workplace.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coming Expert and Appl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ch group will research an assigned area of focus and will create a “Cheat Sheet” identifying critical components of one of the following: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bb’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21: 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 assist you in becoming experts, please visi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efinedstem.wikispaces.com/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 will have 15 minutes to “become experts.”  Please agree on essential elements of concept in preparation for a “jigsaw!”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ch member of expert team should document the “essential elements” determined by the group to take to jigsaw groups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gsaw!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re is now one expert member in each new grou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1 minute sharin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formance task in Defined STEM &amp; Vide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ea of Focus:  Technology/Art/Scien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oral Design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viewing resources, please jot down connections to your area of expertise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bb’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21: 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share in jigsaw groups key ideas and connections in the Defined STEM performance task and vide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xit Ticke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PAIUnet:  Defined Stem Learning Community, please select one of the following forums and respond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1st Century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Defined STEM resources provide opportunities for students to apply 21st century learning and innovation skills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resources in Defined STEM empower learners through the multiple intelligences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ebb'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resources in Defined STEM connect with higher levels of Webb's Depth of Knowledge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Defined STEM resources support differentiation of content, assessment and instruction?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1:32:16Z</dcterms:created>
  <dc:creator>sweiland</dc:creator>
  <dc:description/>
  <dc:language>en-US</dc:language>
  <cp:lastModifiedBy>GuestIU20</cp:lastModifiedBy>
  <dcterms:modified xsi:type="dcterms:W3CDTF">2011-05-10T18:18:49Z</dcterms:modified>
  <cp:revision>9</cp:revision>
  <dc:subject/>
  <dc:title>PAIUnet Defined STEM  Trainer of Trainers</dc:title>
</cp:coreProperties>
</file>